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C20-0879-40C2-9B45-ECCE20A4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E69-311F-4989-B011-DD7199F0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4DC-BB49-4A9E-BB06-23C7ED08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604-014A-487C-977F-EF380A29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F122-96BE-42CD-A0B7-47F98229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536F-9DD4-464A-9C77-27335599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E7DD-0F16-4BCC-833A-86F36AFC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2409-3DE7-4980-9585-12C0D550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166C-7A50-433C-BF39-E94E83E0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5A2E-B31D-4894-BB8B-CA1704FB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8835-ADAC-41C3-996B-B33BA6FE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719-9083-4B4C-890E-D3223B11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CBBC-6DD0-4C32-A744-9D865D99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06C2-11EA-435E-A284-8305A0E3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CE02-7816-41F2-A36E-C826DB1A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F4BC-807F-4BAC-87CB-44731A33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6A39-1292-4985-8B87-B08480FF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6C6-3E7E-4EDA-8C87-ACDD5DE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C41-8CAB-4105-87A9-5AB3F377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322-1E21-41E5-BD9F-5B220202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953-A22D-4B66-85F5-FE9917CD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4B9-B3DB-4967-BC82-BC09AA34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BA3-EAAF-4D54-B6B9-C58B5C56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E43-82D7-4958-80E3-07EF7745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usiness6_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BA4D-523C-481B-B2CD-A4F7B3EF0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Business6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AF02-9F0B-47DA-AD17-09136D060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4238640"/>
            <a:ext cx="8636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ngarahan Tugas Akhir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mester Genap Tahun Akademik 2008/2009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5457960"/>
            <a:ext cx="64008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Bandung, 13 Februari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logo Unikom crop"/>
          <p:cNvPicPr/>
          <p:nvPr/>
        </p:nvPicPr>
        <p:blipFill>
          <a:blip r:embed="rId1"/>
          <a:stretch/>
        </p:blipFill>
        <p:spPr>
          <a:xfrm>
            <a:off x="7286760" y="816120"/>
            <a:ext cx="1533240" cy="1533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4932360" y="249228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Jurusan Teknik Informatik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akultas Teknik dan Ilmu Komput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Universitas Komputer 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teraksi Mahasisw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41320" y="1557360"/>
            <a:ext cx="69343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hap Proposal : Linda Salma, S.Si, M.T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dry Alamsyah, M.Si., Irawan Afrianto, S.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hap Bimbingan : Dosen Pembimbing yang  Ditetapk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hap Seminar : Dian Dharmayanti, S.T.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tami Dewi W., S.Kom., Alif Finandhita, S.K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hap Sidang : Andri Heryandi, Irfan Maliki, S.T, Sufa’atin, S.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hap Yudisium 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uhammad Nasrun, S.Si.,M.T., Iskandar Ikbal, S.Kom., Galih Hermawan, S.K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hap Dokumentasi : Adam Mukharil B., S.K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anggal-Tanggal Penting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03280" y="1687680"/>
          <a:ext cx="7489800" cy="4537080"/>
        </p:xfrm>
        <a:graphic>
          <a:graphicData uri="http://schemas.openxmlformats.org/drawingml/2006/table">
            <a:tbl>
              <a:tblPr/>
              <a:tblGrid>
                <a:gridCol w="587520"/>
                <a:gridCol w="2725560"/>
                <a:gridCol w="2087640"/>
                <a:gridCol w="2089080"/>
              </a:tblGrid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EGIA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NTANG WAK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TAS WAKTU (DEADLIN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yerahan Propos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Februari 2009 s/d 27 Februar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7 Februari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kul 13:30 W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dang  Propos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 Februari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gumuman Proposal I (</a:t>
                      </a: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pik Layak/Tidak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Maret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sulan Proposal Baru (</a:t>
                      </a: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tuk  yang dinyatakan tidak layak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et s/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Maret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 Maret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kul 11:30 W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anggal-Tanggal Penting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76360" y="2205000"/>
          <a:ext cx="7488360" cy="3929040"/>
        </p:xfrm>
        <a:graphic>
          <a:graphicData uri="http://schemas.openxmlformats.org/drawingml/2006/table">
            <a:tbl>
              <a:tblPr/>
              <a:tblGrid>
                <a:gridCol w="588960"/>
                <a:gridCol w="2855880"/>
                <a:gridCol w="2098800"/>
                <a:gridCol w="1944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gumuman Hasil Proposal &amp; Pembimbing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Maret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baikkan Propos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et 2009 </a:t>
                      </a:r>
                      <a:r>
                        <a:rPr b="0" lang="sv-SE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/d 14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et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aret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kul 11:30 W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mbing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et 2009 </a:t>
                      </a:r>
                      <a:r>
                        <a:rPr b="0" lang="sv-SE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/d 11 Jul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 Jul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e Bimbingan  TA tahap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et 2009 s/d 28 Maret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 Maret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emajuan TA tahap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 Maret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 Maret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e Bimbingan  TA tahap II + Prototipe Progr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Maret 2009 s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Me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 Me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emajuan TA tahap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Me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 Me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476360" y="1341360"/>
          <a:ext cx="7477200" cy="824040"/>
        </p:xfrm>
        <a:graphic>
          <a:graphicData uri="http://schemas.openxmlformats.org/drawingml/2006/table">
            <a:tbl>
              <a:tblPr/>
              <a:tblGrid>
                <a:gridCol w="587520"/>
                <a:gridCol w="2851200"/>
                <a:gridCol w="2082600"/>
                <a:gridCol w="195588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EGIA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NTANG WAK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TAS WAKTU (DEADLIN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anggal-Tanggal Penting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32000" y="2629080"/>
          <a:ext cx="7469280" cy="2923920"/>
        </p:xfrm>
        <a:graphic>
          <a:graphicData uri="http://schemas.openxmlformats.org/drawingml/2006/table">
            <a:tbl>
              <a:tblPr/>
              <a:tblGrid>
                <a:gridCol w="593640"/>
                <a:gridCol w="2836800"/>
                <a:gridCol w="2082960"/>
                <a:gridCol w="1955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gambilan Form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Mei 2009 s/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Me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 Me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kul  13:30 W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yerahan Form Semina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Mei 2009 s/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Me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 Me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kul  13:30 W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laksanaan Se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Mei 2009 s/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Me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3 Me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e Bimbingan  TA tahap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Mei 2009 s/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Jul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 Jul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emajuan TA tahap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Jul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 Juli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332000" y="1989000"/>
          <a:ext cx="7477200" cy="639720"/>
        </p:xfrm>
        <a:graphic>
          <a:graphicData uri="http://schemas.openxmlformats.org/drawingml/2006/table">
            <a:tbl>
              <a:tblPr/>
              <a:tblGrid>
                <a:gridCol w="587160"/>
                <a:gridCol w="2851200"/>
                <a:gridCol w="2082960"/>
                <a:gridCol w="1955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EGIA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NTANG WAK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TAS WAKTU (DEADLIN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anggal-Tanggal Penting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332000" y="1484280"/>
          <a:ext cx="7561080" cy="4444920"/>
        </p:xfrm>
        <a:graphic>
          <a:graphicData uri="http://schemas.openxmlformats.org/drawingml/2006/table">
            <a:tbl>
              <a:tblPr/>
              <a:tblGrid>
                <a:gridCol w="503280"/>
                <a:gridCol w="2952720"/>
                <a:gridCol w="1944720"/>
                <a:gridCol w="2160360"/>
              </a:tblGrid>
              <a:tr h="33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EGIA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NTANG WAK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TAS WAKTU (DEADLIN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gambilan Form Sida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Juni s/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Juni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 Juni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kul  13:30 W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gembalian Form Sidang Sesi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 Juni 2009 s/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Juli 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 Juli 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kul  13:30 W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laksanaan Sidang Sesi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Juli s/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Juli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 Juli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gembalian Form Sidang Sesi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Juli 2009 s/d 15 Juli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 Juli 2009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kul  13:30 W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laksanaan Sidang Sesi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 Juli 2009 s/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Agustus 200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 Agustus 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Penekana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76360" y="2060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etegasan dalam mematuhi batas waktu dari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tiap rangkaian kegiatan 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esanggupan dan kerelaan mene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onsekuensi yang diberik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erjasama yang baik antara dosen pembimbing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hasiswa peserta 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Proposal Tugas Akhi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55640" y="2923920"/>
            <a:ext cx="5562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gambilan Formul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yerahan Formul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hap Kelayakan dan Perbaik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hap Pengumu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atan dan Peneka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engambilan Formulir &amp; Penyerahan Proposa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23640" y="21337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mulai pada tanggal 16 Februari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pat didownload di http://if.unikom.ac.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dline 21 Februari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048040" y="4646520"/>
            <a:ext cx="62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at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Pengambilan formulir yang dilakukan pada wak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jelang deadline mempunyai konsekuensi logis. Apak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ngkin membuat proposal dengan sisa waktu yang ad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nyerahan Proposa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143000" y="1285920"/>
            <a:ext cx="7858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arat Akademik: - Tidak ada nilai E d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Minimum IPK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Angkatan 2005    : 2.50 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terapkan 2009/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Angkatan 2004    : 2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Angkatan 2003    : 2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ampirkan Konversi nilai dari Dosen Wali diserta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HS Lengka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ntuk Program S1 dan D3. Dicetak, lalu dibagikan kepada mahasiswa melalui Dosen Wali untuk di cek dan rice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ampirk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to co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embayaran Autodebe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gsuran kuliah lengka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 bukti pembayaran tugas akh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ika belum bisa melakukan pembayaran TA, maka harus mengisi surat pernyataan penangguhan pembayaran yang waktunya ditentukan oleh Jurusan.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rat pernyataan dapat di download di Situs IF/ Milis 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isi formulir dengan lengk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ika kondisi di atas dipenuhi, proposal diterima untuk diseleksi isi/mate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ika kondisi tidak dipenuhi, proposal ditolak (berhubungan dengan syarat dan format penulisa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dline Penyerahan Proposal Tanggal 27 Februari 2009 pukul 13.30 WIB.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ktu Pengumpulan Proposal, lihat pengumuman!!!!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ahap Seleksi dan Perbaika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7640" y="1557000"/>
            <a:ext cx="6705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osal akan diseleksi isi/materi oleh dewan (kelompok kompetensi dose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juan: untuk menghindari adanya kesamaan isi/materi serta bobot isi/materi yang akan diteliti, sehingga mempengaruhi penilaian 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sil yang akan diperoleh: disetujui, diperbaiki dan ditol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etuju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melanjutkan ke tahap berikutn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perbaik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: menghubungi dosen pembimbing 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usulkan dengan membawa catatan 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berikan oleh dewan. Perbaikan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dah dilakukan diserahkan kembali 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nitia proposal dengan lampiran buk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baikan dari pembimbing (perhati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tas waktu perbaikan dan catatan da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wan yang harus diperbaiki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tola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: Melaksanakan TA di semester selanjutn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Penjelasan Umum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63640" y="2212560"/>
            <a:ext cx="69343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sunan Panitia Tugas Akhir Tahun Akademik 2008/2009 Jurusan Teknik Informatik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owchart Pelaksanaan Tugas Akh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aksi Mahasiswa Dengan Dosen Dari Setiap Tahap Kegiat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nggal-Tanggal Penting Yang Harus Diperhatikan Oleh Mahasiswa Peserta Tugas Akh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ekanan Pada Pelaksanaan Tugas Akh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ahap Pengumuma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547640" y="1376280"/>
            <a:ext cx="712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osal yang disetujui dan proposal yang sudah diperbaiki akan diumumkan beserta nama pembimb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ama pembimbing yang diumumkan tidak dapat diganti, baik sesuai dengan nama calon pembimbing yang diajukan maupun tidak. (Kecuali apabila sesuai dengan saran dosen yang ditugaskan atau keberatan dari dosen ts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atatan dan Penekana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692360" y="1413000"/>
            <a:ext cx="698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pabila nama pembimbing yang diusulkan terpaksa     diganti (berkaitan dengan jumlah mahasiswa yang     terlalu banyak untuk dibimbing/ kuota dosen     membimbing) maka nama pembimbing pengganti     akan ditetapkan oleh pihak panitia dan tidak boleh     diganggu gug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rhatikan semua deadline yang diberikan pada     tahap i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tiap mahasiswa yang mengajukan proposal     diharuskan menyediakan map plastik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MERAH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untuk     S1 d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BIRU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untuk D3 lengkap dengan seluruh     persyaratan (Lengkapi dengan stiker NIM dan     NAM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atatan dan Penekana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92360" y="1700280"/>
            <a:ext cx="70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hasiswa yang tidak melengkapi persyaratan  tidak akan diproses oleh panitia tugas akh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onversi Nilai yang diajukan telah disahkan oleh     dosen wa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Foto cop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pembayaran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utodebet angsuran kulia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lengkap dan bukti pembayaran tugas akh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Penjelasan Masa Bimbinga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92360" y="1699920"/>
            <a:ext cx="6767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10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ahap yang akan ditempu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spcBef>
                <a:spcPts val="10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onsekuensi yang akan diterim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spcBef>
                <a:spcPts val="10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tatan dan Penekan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ahap Yang Ditempuh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835280" y="1268280"/>
            <a:ext cx="655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40644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ahap 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 algn="just">
              <a:lnSpc>
                <a:spcPct val="100000"/>
              </a:lnSpc>
              <a:tabLst>
                <a:tab algn="l" pos="0"/>
                <a:tab algn="l" pos="40644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poran kemajuan tahap I berisi hasil yang sudah  dibuat dan dituliskan pada Bab I Pendahuluan dan Bab II Tinjauan Pustaka/Landasan Teo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 algn="just">
              <a:lnSpc>
                <a:spcPct val="100000"/>
              </a:lnSpc>
              <a:tabLst>
                <a:tab algn="l" pos="0"/>
                <a:tab algn="l" pos="40644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ktu sesuai dengan rentang waktu yang telah       ditetapk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40644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ahap I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 algn="just">
              <a:lnSpc>
                <a:spcPct val="100000"/>
              </a:lnSpc>
              <a:tabLst>
                <a:tab algn="l" pos="0"/>
                <a:tab algn="l" pos="40644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poran kemajuan tahap II berisi hasil yang sudah dibuat dan dituliskan pada Bab III atau/ dan Bab IV (analisis dan Perancanga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 algn="just">
              <a:lnSpc>
                <a:spcPct val="100000"/>
              </a:lnSpc>
              <a:tabLst>
                <a:tab algn="l" pos="0"/>
                <a:tab algn="l" pos="40644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ktu sesuai dengan rentang waktu yang telah ditetapk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40644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ahap II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 algn="just">
              <a:lnSpc>
                <a:spcPct val="100000"/>
              </a:lnSpc>
              <a:tabLst>
                <a:tab algn="l" pos="0"/>
                <a:tab algn="l" pos="40644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poran kemajuan tahap III berisi hasil yang sudah dibuat dan dituliskan pada Implementasi, Pengujian, Kesimpulan dan Sar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 algn="just">
              <a:lnSpc>
                <a:spcPct val="100000"/>
              </a:lnSpc>
              <a:tabLst>
                <a:tab algn="l" pos="0"/>
                <a:tab algn="l" pos="40644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ktu sesuai dengan rentang waktu yang telah      ditetapk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40644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Konsekuensi Yang Akan Diterim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476360" y="1557360"/>
            <a:ext cx="73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abila mahasiswa peserta TA tidak melaporkan     hasil kemajuan dari setiap tahap yang diberikan     (berhubungan dengan deadline) maka mahasiswa     yang bersangkutan tidak dapat mengikuti seminar     untuk semester i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lahkan melanjutkan TA, dengan pelaksanaan     seminar di semester dep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atatan dan Penekana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3436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mua tahap laporan kemajuan akan dibuat buktinya yang akan dijadikan syarat mengikuti semi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usaha untuk sesering mungkin berkonsultasi dengan pembimb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hatikan kembali deadline dari setiap tahap laporan kemaju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Penjelasan Semina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6913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gambilan, Pengembalian F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muli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an Pelaksanaan Semi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a yang harus dilakukan setelah seminar dan rentang waktu menuju sida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engambilan, Pengembalian Formulir dan Syarat yang Harus Dipenuhi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gambilan formulir dilakukan mulai dari tangg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Mei s/d 6 Mei 200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ri pukul 08.00 s/d 13.30 WIB (sekretariat i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yerahan formulir dilakukan mulai tangg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Mei s/d 8 Mei 200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ri pukul 08.00 s/d 13.30 WI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gan menyertakan Kartu Bimbingan dan  menyertakan draft TA (tidak di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yarat yang harus dipenuhi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yerahkan foto copy kwitansi pembayaran T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bagi yang melakukan penangguhan pembayaran di tahap propos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mperlihatkan Kartu Bimbingan yang berisi minimal 6 kali bimbingan dan menyelesaikan kemajuan TA tahap I dan 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yelesaikan program dalam bentuk Prototype (belum 100%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gisi Formulir Seminar dengan lengk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yerahkan Draft T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ngka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ebanyak 2 buah untuk D3 dan 3 buah untuk S1 tanpa Co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Susunan Paniti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03280" y="1484280"/>
          <a:ext cx="7283520" cy="4800600"/>
        </p:xfrm>
        <a:graphic>
          <a:graphicData uri="http://schemas.openxmlformats.org/drawingml/2006/table">
            <a:tbl>
              <a:tblPr/>
              <a:tblGrid>
                <a:gridCol w="3751200"/>
                <a:gridCol w="405000"/>
                <a:gridCol w="3127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nanggung jaw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et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ra Kania Sabariah, M.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ti Harihayati M., M.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ndaha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ani Susanto, S.Ko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gian Propos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nda Salma, S.Si, M.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dry Alamsyah, M.S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rawan Afrianto, S.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gian Semin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n Dharmayanti, S.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tami Dewi W., S.Ko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f Finandhita, S.Ko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gian Sid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dri Heryandi, S.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rfan Maliki, S.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fa’atin, S.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gian  Sidang Yudis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hammad Nasrun, S.Si.,M.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skandar Ikbal, S.Ko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alih Hermawan, S.Ko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gian Dokumenta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am Mukharil B., S.Ko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Pelaksanaan Semina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minar dilaksanakan mulai tanggal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1 Mei s/d 23 Mei 2009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serta Seminar wajib hadir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30 menit sebel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eminar dan berpakaian rapih sesuai dengan ketentu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Kemeja Putih dan Celana Panjang Hitam (Pria)/Rok Panjang Hitam (Wanita)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abila tidak maka  dinyatakan gugur mengikuti semin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laksanaan seminar dihadiri oleh dosen pembimbing, Dosen Reviewer dan terbuka untuk umum (minimal peserta 8 orang dan maksimum 15 or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Apa yang harus dilakukan setelah seminar dan rentang waktu menuju sidang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476360" y="1700280"/>
            <a:ext cx="698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rbaikan terhadap koreksi dari pembimb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makin cepat waktu perbaikan semakin baik untuk pelaksanaan sidang (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hatikan deadlin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rkiraan waktu tercepat adalah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2 minggu setelah semina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bergantung pada koreksi yang diberika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belum mendaftarkan diri mengikuti sidang, lembar koreksi harus sudah disetujui oleh pembimb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Penjelasan Pelaksanaan Sidang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2349360"/>
            <a:ext cx="7524720" cy="155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g-NG" sz="3200" spc="-1" strike="noStrike">
                <a:solidFill>
                  <a:srgbClr val="ffffff"/>
                </a:solidFill>
                <a:latin typeface="Tahoma"/>
              </a:rPr>
              <a:t>Syarat Pengajuan Ujian Sida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g-NG" sz="3200" spc="-1" strike="noStrike">
                <a:solidFill>
                  <a:srgbClr val="ffffff"/>
                </a:solidFill>
                <a:latin typeface="Tahoma"/>
              </a:rPr>
              <a:t>Penjadwalan Sida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g-N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g-NG" sz="3200" spc="-1" strike="noStrike">
                <a:solidFill>
                  <a:srgbClr val="ffffff"/>
                </a:solidFill>
                <a:latin typeface="Tahoma"/>
              </a:rPr>
              <a:t>Pelaksanaan Sida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yarat Pengajuan Ujian Sidang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258920" y="1413000"/>
            <a:ext cx="78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ngisian surat permohonan ujian sida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PK &gt;= 2.25 untuk Angkatan 2004 dan 2005 dan IPK &gt;= 2.00 untuk angkatan 2003, Nilai D &lt;= 9 sks dan Tidak ada nilai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to copy KT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mpiran Biod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mpiran Absensi Bimbingan 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rat Keterangan Bebas Perpustaka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to copy Transkip Nilai Sementa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raft Tugas Akhir (sudah melalui tahap perbaikan) sebany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 buah (D3) dan 4 buah (S1), tanpa di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mbangan buku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agi jurus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to berwarna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2x3, 3x4, 4x6  masing-masing 3 b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Laki – laki menggunakan Jas, kemeja dan  berdasi,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ackground bi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Perempuan menggunakan Blazer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 background biru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ukti Pembayaran Biaya Wisuda dan Bukti Pembaya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gsuran1 s/d  VII Tahun ajaran 2008/200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rtifikat Kegiatan HIMA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Penjadwalan Sidang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619280" y="1700280"/>
            <a:ext cx="720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jadwalan sidang dilakukan dengan cara: 2 hari setelah memenuhi persyaratan sidang, bergantung dari banyaknya kuota yang diberikan oleh panit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cara ini, peserta TA harus dapat mengantisipasi pendaftaran sidang yang berhubungan dengan deadline pelaksanaan sida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 algn="just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abila terdapat kasus yang melewati deadline sidang,maka sidang masih dapat dilangsungkan pada semester ini ju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Pelaksanaan Sidang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908000" y="1484280"/>
            <a:ext cx="64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dang dilaksanakan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ebanyak 2 sesi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esi 1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 Untuk mahasiswa yang PERPANJANGAN dan tidak mengambil mata kuliah selain TA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esi 2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 Untuk mahasiswa yang mengambil mata kuliah selain TA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dang dihadiri oleh mahasiswa ybs., dosen pembimbing dan penguj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dang tertutup untuk um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Sidang Yudisium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476360" y="1484280"/>
            <a:ext cx="74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ahoma"/>
              </a:rPr>
              <a:t>Perhatikan semua persyaratan akademik dan administrasi yang belum terpenuhi!!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rima Kasih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Picture 5" descr="j0149481"/>
          <p:cNvPicPr/>
          <p:nvPr/>
        </p:nvPicPr>
        <p:blipFill>
          <a:blip r:embed="rId1"/>
          <a:stretch/>
        </p:blipFill>
        <p:spPr>
          <a:xfrm>
            <a:off x="2627280" y="1700280"/>
            <a:ext cx="4465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Daftar Dosen Pembimbing Program Strata I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203640" y="1628640"/>
            <a:ext cx="33606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Mira Kania Sabariah, M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ati Harihayati M., M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Muhammad Nasrun, S.Si., M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Linda Salma A., S.Si., M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Ir. Taryana Suryana, M.Kom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Dian Dharmayanti, S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Andri Heryandi, S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Irawan Afrianto, S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Irfan Maliki, S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Andry Alamsyah, M.S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Yeffry Handoko Putra, M.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Ilham Perdana, M.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Ir. Bambang Siswoyo, M.S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Wina Witanti, M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Edi Mulyana, M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Sari Amiarti, M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Rasim, M.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Tahoma"/>
              </a:rPr>
              <a:t>Daftar Dosen Pembimbing Program Diploma III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195640" y="2548080"/>
            <a:ext cx="304776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Galih Hermawan, S.K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Iskandar Ikbal, S.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Rani Susanto, S.Kom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pik Tugas Akhi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 Informasi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 Informasi Enterpri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 Pendukung Keputu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 Informasi Geograf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 Informasi Akuntan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 Otomatisasi Kan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 Pak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kayasa Perangkat Lunak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verse Enginee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engineering, 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ata M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grasi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ringan Kompu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etwork Secur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munikasi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ngolahan Citra/Komputer Graf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ngenalan Po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21360" y="1484280"/>
            <a:ext cx="3565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likasi berbasis Mobil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likasi Komputer : E-Learning, E-Commerce, 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 Terdistribu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 Multime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ka Teorit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 yang Harus Diperhatikan 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mbangunan Perangkat lunak yang bersifat Khusu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ivate Softw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harus atas keinginan pihak perusahaan dan pada saat pembuatan P/L menggunakan prosedur yang sesuai dengan perusahaan tersebut serta pada saat pengujian menggunakan data pada perusaha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Flowchart Pelaksanaa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51360" y="3695760"/>
            <a:ext cx="5493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Y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948360" y="220500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308720" y="1557360"/>
            <a:ext cx="549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d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259000" y="3929040"/>
            <a:ext cx="549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Td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373480" y="1484280"/>
            <a:ext cx="21351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5588"/>
                </a:solidFill>
                <a:latin typeface="Tahoma"/>
              </a:rPr>
              <a:t>Pengumpulan Proposal 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5588"/>
                </a:solidFill>
                <a:latin typeface="Tahoma"/>
              </a:rPr>
              <a:t>Daftar Ulang (perpanjangan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4799160" y="1557360"/>
            <a:ext cx="2768400" cy="83016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Memenuhi syara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8405640" y="1413000"/>
            <a:ext cx="0" cy="433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300720" y="2708280"/>
            <a:ext cx="2664000" cy="73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Pengumuman Hasil Proposal da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Dosen Pembimb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2082960" y="2008080"/>
            <a:ext cx="279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6170760" y="141300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4643280" y="2708280"/>
            <a:ext cx="1413000" cy="61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5588"/>
                </a:solidFill>
                <a:latin typeface="Tahoma"/>
              </a:rPr>
              <a:t>Masa Bimbin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4344840" y="3716280"/>
            <a:ext cx="123516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Seminar 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1258920" y="1825560"/>
            <a:ext cx="8254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5588"/>
                </a:solidFill>
                <a:latin typeface="Tahoma"/>
              </a:rPr>
              <a:t>St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7209000" y="5950080"/>
            <a:ext cx="1373040" cy="35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Sidang 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3635280" y="5877000"/>
            <a:ext cx="1354320" cy="51912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Sidang Yudis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1908000" y="5877000"/>
            <a:ext cx="137484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Wis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7812000" y="1773360"/>
            <a:ext cx="1063800" cy="45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Perbaik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1994040" y="4676760"/>
            <a:ext cx="1466640" cy="48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588"/>
                </a:solidFill>
                <a:latin typeface="Tahoma"/>
              </a:rPr>
              <a:t>Penangguhan Tugas Akh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6846840" y="6121440"/>
            <a:ext cx="4111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6170760" y="1413000"/>
            <a:ext cx="2251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>
            <a:off x="4508640" y="2023920"/>
            <a:ext cx="279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6156360" y="16178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2728800" y="2925720"/>
            <a:ext cx="0" cy="646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8"/>
          <p:cNvSpPr/>
          <p:nvPr/>
        </p:nvSpPr>
        <p:spPr>
          <a:xfrm>
            <a:off x="7524720" y="1989000"/>
            <a:ext cx="279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>
            <a:off x="6012000" y="2997360"/>
            <a:ext cx="2793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0"/>
          <p:cNvSpPr/>
          <p:nvPr/>
        </p:nvSpPr>
        <p:spPr>
          <a:xfrm>
            <a:off x="1328760" y="3605040"/>
            <a:ext cx="2768400" cy="73836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Memenuhi syara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2714760" y="2908440"/>
            <a:ext cx="39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32"/>
          <p:cNvSpPr/>
          <p:nvPr/>
        </p:nvSpPr>
        <p:spPr>
          <a:xfrm>
            <a:off x="2728800" y="4344840"/>
            <a:ext cx="0" cy="314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4067280" y="3979800"/>
            <a:ext cx="279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4"/>
          <p:cNvSpPr/>
          <p:nvPr/>
        </p:nvSpPr>
        <p:spPr>
          <a:xfrm>
            <a:off x="5940360" y="3573360"/>
            <a:ext cx="2768760" cy="73836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Memenuhi syara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6"/>
          <p:cNvSpPr/>
          <p:nvPr/>
        </p:nvSpPr>
        <p:spPr>
          <a:xfrm>
            <a:off x="2244600" y="4319640"/>
            <a:ext cx="54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d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7"/>
          <p:cNvSpPr/>
          <p:nvPr/>
        </p:nvSpPr>
        <p:spPr>
          <a:xfrm>
            <a:off x="5435640" y="4653000"/>
            <a:ext cx="36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8"/>
          <p:cNvSpPr/>
          <p:nvPr/>
        </p:nvSpPr>
        <p:spPr>
          <a:xfrm>
            <a:off x="6516720" y="4724280"/>
            <a:ext cx="146664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588"/>
                </a:solidFill>
                <a:latin typeface="Tahoma"/>
              </a:rPr>
              <a:t>Penanguhan Tugas Akh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39"/>
          <p:cNvSpPr/>
          <p:nvPr/>
        </p:nvSpPr>
        <p:spPr>
          <a:xfrm>
            <a:off x="7277040" y="4354560"/>
            <a:ext cx="0" cy="31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6797520" y="4319640"/>
            <a:ext cx="549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d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1"/>
          <p:cNvSpPr/>
          <p:nvPr/>
        </p:nvSpPr>
        <p:spPr>
          <a:xfrm>
            <a:off x="8464680" y="3962520"/>
            <a:ext cx="39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8847000" y="3946680"/>
            <a:ext cx="0" cy="2157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43"/>
          <p:cNvSpPr/>
          <p:nvPr/>
        </p:nvSpPr>
        <p:spPr>
          <a:xfrm>
            <a:off x="8567640" y="6087960"/>
            <a:ext cx="2793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4"/>
          <p:cNvSpPr/>
          <p:nvPr/>
        </p:nvSpPr>
        <p:spPr>
          <a:xfrm>
            <a:off x="3282840" y="6064200"/>
            <a:ext cx="4111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1576440" y="6064200"/>
            <a:ext cx="4125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6"/>
          <p:cNvSpPr/>
          <p:nvPr/>
        </p:nvSpPr>
        <p:spPr>
          <a:xfrm>
            <a:off x="741240" y="5892840"/>
            <a:ext cx="8254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588"/>
                </a:solidFill>
                <a:latin typeface="Tahoma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8532720" y="3645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Y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4067280" y="5229360"/>
            <a:ext cx="1466640" cy="40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588"/>
                </a:solidFill>
                <a:latin typeface="Tahoma"/>
              </a:rPr>
              <a:t>Tunggu Semester Dep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>
            <a:off x="3419640" y="4941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5508720" y="5373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 flipH="1">
            <a:off x="179280" y="5373720"/>
            <a:ext cx="388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53"/>
          <p:cNvSpPr/>
          <p:nvPr/>
        </p:nvSpPr>
        <p:spPr>
          <a:xfrm flipV="1">
            <a:off x="179280" y="2637000"/>
            <a:ext cx="2160720" cy="27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4"/>
          <p:cNvSpPr/>
          <p:nvPr/>
        </p:nvSpPr>
        <p:spPr>
          <a:xfrm>
            <a:off x="5580000" y="5734080"/>
            <a:ext cx="1295640" cy="7380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Lulu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55"/>
          <p:cNvSpPr/>
          <p:nvPr/>
        </p:nvSpPr>
        <p:spPr>
          <a:xfrm flipH="1">
            <a:off x="5003280" y="609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 flipV="1">
            <a:off x="6227280" y="5516640"/>
            <a:ext cx="180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076720" y="5805360"/>
            <a:ext cx="549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Y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156360" y="5516640"/>
            <a:ext cx="5493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id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2943360" y="2708280"/>
            <a:ext cx="1412640" cy="61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5588"/>
                </a:solidFill>
                <a:latin typeface="Tahoma"/>
              </a:rPr>
              <a:t>Daftar Semin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9"/>
          <p:cNvSpPr/>
          <p:nvPr/>
        </p:nvSpPr>
        <p:spPr>
          <a:xfrm>
            <a:off x="4356000" y="2997360"/>
            <a:ext cx="2793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4356000" y="4437000"/>
            <a:ext cx="123516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5588"/>
                </a:solidFill>
                <a:latin typeface="Tahoma"/>
              </a:rPr>
              <a:t>Daftar Sidang 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 flipV="1">
            <a:off x="4932360" y="414972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 flipV="1">
            <a:off x="5796000" y="3933720"/>
            <a:ext cx="0" cy="719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5796000" y="3933720"/>
            <a:ext cx="279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4932360" y="414972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6156360" y="2349360"/>
            <a:ext cx="0" cy="21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6164280" y="2565360"/>
            <a:ext cx="1432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9"/>
          <p:cNvSpPr/>
          <p:nvPr/>
        </p:nvSpPr>
        <p:spPr>
          <a:xfrm flipV="1">
            <a:off x="7596360" y="2565000"/>
            <a:ext cx="0" cy="142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508720" y="5516640"/>
            <a:ext cx="7189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3"/>
          <p:cNvSpPr/>
          <p:nvPr/>
        </p:nvSpPr>
        <p:spPr>
          <a:xfrm>
            <a:off x="7236000" y="5229360"/>
            <a:ext cx="0" cy="14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V="1">
            <a:off x="4211640" y="4941360"/>
            <a:ext cx="0" cy="2876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ATAT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gi yang perpanjangan TA dari semester sebelumny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AJI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tuk Registrasi Ulang kepada Panitia Propo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entara Bagi perpanjangan TA dari semester sebelumnya dan bermaksud untu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ngganti TOPIK/T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ngikuti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sedur pendaftaran Bar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ngan membuat surat pernyataan (oleh mahasiswa ybs.) dengan diketahui pembimbing sebelumnya (ditandatangani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02:15Z</dcterms:created>
  <dc:creator>Paul</dc:creator>
  <dc:description/>
  <dc:language>en-US</dc:language>
  <cp:lastModifiedBy>unikom</cp:lastModifiedBy>
  <dcterms:modified xsi:type="dcterms:W3CDTF">2009-02-12T06:04:18Z</dcterms:modified>
  <cp:revision>233</cp:revision>
  <dc:subject/>
  <dc:title>Diapozitivul 1</dc:title>
</cp:coreProperties>
</file>